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538-3B7B-43D8-92B5-7B93CE15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659-78CE-4D24-ACA7-9D765AE4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599-9CFF-4880-A4C5-F721E3CC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16EA-6F34-423E-BCC2-75181FBA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94A5-28CB-4146-BD3A-49FD1FE1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CE26-BB80-40F2-83FA-7FE4039F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B6A2-1280-4BC3-8F0D-F070093C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413E-7BE9-4435-B4DF-26724857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A17D-A29F-41CF-96C0-C7CF26BE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BB3F-4904-4F30-9587-2F51EFF3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24F0-684F-4CF3-9DFE-1F77E7CE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9B6-682D-42BC-AE9A-15CA0050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BA3A-8435-4679-8099-F2392D9D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B9B7-97F7-4CC5-B8CB-019B026F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6618-230C-47AF-97A0-B80D208B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1586-3301-4163-A943-179090EC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814D-4719-4BC4-A040-50C5BF01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E83E-FE48-4654-984A-BF4C2571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22F-E407-418D-BD61-57C3ED4E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A75-B83D-471E-8337-0F5F3843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D47-92F9-4B0D-98D4-71E1D078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9F4-2671-4E1B-945A-CCA8D3D2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B18-0859-4877-B7D0-17F57271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A944-F325-4384-AAF3-48E5A3A8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A2BA-FAA3-44ED-8B6B-26D62602E2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EC06-CA97-4A3B-9C4A-D005F1D5C2F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upporting Early Literacy Learn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lar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ch, 20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cabulary Develop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knowledge is compl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supports both learning to read and reading to lea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grows through rea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icit teaching of vocabulary is effective – and necess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s need to stimulate vocabulary growt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mprehension Develop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ehension is not just finding                                 answers in a piece of text – it is an active process whereby the reader creates a version of the text in his or her m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mprehension Develop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ehension needs to be taught not just tes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variety of reading materials should be used, including short te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e listening should be 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ers need multiple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interactive writing, the process is as important as the product. It might be said that what we learn on the journey is more important than reaching the destination.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active Writing and Interactive Editing, p 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elled/Interactive Wri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odelled/Interactive Writing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Negotiating the composition of tex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llaborating in the construction of 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Using the conventions of pr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Reading and rereading tex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earching, checking and confirming while reading and wri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Using the reading of text as a model to co-operatively write new 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strategy that supports comprehension through discu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elled/Interactive Wri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cri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nstruct existing 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novation on 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nge a familiar 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oti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ginal compos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elled/Interactive Wri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ing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phabetic Princi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epts about Pr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nemic Awareness and Pho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ten Language Con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ing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elled/Interactive Wri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phabetic Princi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ter recogn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ter 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ter-name correspon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ter-sound correspon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phabetic 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elled/Interactive Wri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pts about Pr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ion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-to-one matc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sw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cing, indentation, paragraph form, text lay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ept of first and last part of word, sentence, 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nctuation, reading the punc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elled/Interactive Wri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nemic Awareness and Pho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ring sounds in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lectional end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ym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llabif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ound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set and r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gm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unking and ble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t wor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aching Children to Read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sential for read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nemic aware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ing flue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cabulary 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rehension i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elled/Interactive Wri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nemic Awareness and Phonics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unds in sequ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og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frequency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elling patter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onants, blends, short and long vowels, digraphs, diphtho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ite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ffixes, prefixes and root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aphors and simi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elled/Interactive Wri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ten Language Conven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nctuation and capital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lling and word an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tence stru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elled/Interactive Wri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mm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iles and metaph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ophones, antonyms, synony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s of spe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d us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regular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omatopoe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elled/Interactive Wri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ing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a develop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organ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of reading and edi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tl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ocabulary and word cho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cept develop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racters, plot, set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ing catego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agraph develop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riting Strateg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your head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room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t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re a part you kn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es that look righ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onemic Awaren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bility to tune into separate single sou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e able to play with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end them toge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gment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wap them ar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onemic Awaren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Phonemic Awareness Subskil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honeme iso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Recognise the separate phonemes in a wo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honeme ble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Listening to a sequence of phonemes and then combine them into a wo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honeme segm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Count out the separate phonemes inn a word, saying each sound as they tap it or count 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honeme manip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honeme deletion, addition and a combination of bo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on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nderstanding that there is a predictable relationship between the individual sounds (phonemes) of spoken language and letters (graphemes) that represent those sounds in written l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on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thetic phonics i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ers to the process of synthesising or blending individual sounds toge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bed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terature based involves pointing out letter-sound relationships to children incidentally while engaged in reading motivating and engaging 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t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d on whole words and involves drawing children’s attention to and analysing word pa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veloping fluen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bility to read accurately, quickly and with expr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ong correlation between fluency and comprehe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ground knowledge of material being r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pid retrieval of relevant vocabul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 of syntax to allow reader to predict upcoming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veloping fluen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ore components of flu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ccura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Demands that the text be at the reader’s independent reading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Rapid rate of rea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hen a reader is accurate and rapid, the word identification processes have become automati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Reading with expression (prosod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Use of appropriate phrasing, stress, pitch and rhyth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cabulary Develop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ize of vocabulary is critical to success in reading and in broader academic achieve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1:36:20Z</dcterms:created>
  <dc:creator>ZrnaJ</dc:creator>
  <dc:description/>
  <dc:language>en-US</dc:language>
  <cp:lastModifiedBy>ZrnaJ</cp:lastModifiedBy>
  <dcterms:modified xsi:type="dcterms:W3CDTF">2011-04-01T02:57:26Z</dcterms:modified>
  <cp:revision>16</cp:revision>
  <dc:subject/>
  <dc:title>Supporting Early Literacy Learning</dc:title>
</cp:coreProperties>
</file>